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233-2BCD-4109-9188-FFAC47CD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5D5-EE90-40B3-816C-BDA6DEB6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8B4-39FA-4FAD-82DC-BE716444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774-2D62-438E-A66E-1083A997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583-A8CD-425D-AFBD-8088D824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0DD-FB8A-4360-9CAF-3AA2F2EA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B1B-F22F-40B7-AB06-75E31360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CCF-6483-4E24-9EC3-F141F54A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F1C-0E7D-4767-800E-4151051A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499-5D46-4358-8607-31CA18C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7C2-F122-4D2A-B37C-2E4A019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589-45E9-4653-B134-DF99BFC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AD2A-70FD-43CD-85BA-A8966C91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cross%20and%20faces" descr=""/>
          <p:cNvPicPr/>
          <p:nvPr/>
        </p:nvPicPr>
        <p:blipFill>
          <a:blip r:embed="rId1"/>
          <a:stretch/>
        </p:blipFill>
        <p:spPr>
          <a:xfrm>
            <a:off x="403848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يا أيهذا الرأسُ ما هذهِ الأوجاع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مِنكَ دِماءٌ تجْري سيلاً بلا انقطاع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فيا لهُ  من سوءٍ يُجزى بهِ الجم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إليكَ راسَ ربِّي سلامَنا الجز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0"/>
            <a:ext cx="64771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ناسُ هاكُم جسمَ المُخلّصِ الذب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لْ رأيتُم سُقماً كسُقمِ ذا الجريح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 أجلِكُم دِماهُ تسيلُ يا أُم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قمةٍ لرأسٍ لأَخمَصِ القَد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aint%20+%20cross+%20jesus" descr=""/>
          <p:cNvPicPr/>
          <p:nvPr/>
        </p:nvPicPr>
        <p:blipFill>
          <a:blip r:embed="rId1"/>
          <a:stretch/>
        </p:blipFill>
        <p:spPr>
          <a:xfrm>
            <a:off x="4000680" y="-1295280"/>
            <a:ext cx="5829120" cy="1021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228600"/>
            <a:ext cx="36576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ذي يا ربي قد سبَّبَ الآل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فرْطِ ما جَنَاهُ مِن أَثقلِ الآث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يدُ ارحَمْ عبداً يرجو لها الغف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َهَبْ لهُ مَقامَ السماءِ يا رحمان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riends%20with%20god" descr=""/>
          <p:cNvPicPr/>
          <p:nvPr/>
        </p:nvPicPr>
        <p:blipFill>
          <a:blip r:embed="rId1"/>
          <a:stretch/>
        </p:blipFill>
        <p:spPr>
          <a:xfrm>
            <a:off x="5234040" y="0"/>
            <a:ext cx="390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105520" cy="76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يا ربُّ إنَّا نبكي لذا الموتِ الأل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ومِن صًميمِ قلبٍ ندعوكَ يا رَح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هبنا سلاماً والْطُفْ بِشعبِكَ الأث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نوِّلْنا أخيراً سعادةَ النّعيمْ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0:32:59Z</dcterms:created>
  <dc:creator>SUZANNE.MD</dc:creator>
  <dc:description/>
  <dc:language>en-US</dc:language>
  <cp:lastModifiedBy>SUZANNE.MD</cp:lastModifiedBy>
  <dcterms:modified xsi:type="dcterms:W3CDTF">2003-03-19T06:35:23Z</dcterms:modified>
  <cp:revision>2</cp:revision>
  <dc:subject/>
  <dc:title>PowerPoint Presentation</dc:title>
</cp:coreProperties>
</file>